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370-F70B-4F26-AAE2-64FF2623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51E-B403-41FA-B14B-5AF43D5B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ED4-48F9-4AD9-B98C-B9A760E2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5F2-4F98-437B-AB6F-8E769680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4232-D0C8-4A3E-93FA-63BF613A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E95F-37C7-4346-8200-4450A059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D06E-ECDF-445F-BE74-825EDE72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CD51-2EAC-4189-AA36-6747F652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BBFC-E427-4522-A86D-7E42EABD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2942-6FF4-4475-B56C-C2D73ED6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3E3D-DCC4-41C9-A808-116D01E9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3A8-7400-4B9E-A608-AA800373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8A4E-9F00-4917-A587-5F11BE80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6EAD-59C5-44EA-AC95-17549306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909D-44FE-41E4-9CC3-B6BAA097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71B7-EFB6-4734-943B-664E540B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435F-CC02-486B-8E89-3437AF34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652-ED2A-4E34-B98B-A61CAE32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51C-60E6-40CF-950C-FF563639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4786-01EB-443D-8886-18AAFC34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363-847C-4BC3-B339-220022A8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0CE-FF35-4E69-AFDB-32E1178A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CE3-6851-4446-82A3-7C935590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38F-A18D-4C92-8759-39F015AA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84A4-E39B-4000-9F85-0DB1DB13837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A618-2D72-4691-B04C-DF06724F776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xt Featur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apted from the Reader’s Hand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b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the reader identify a picture/photograph and/or its par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3959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 the reader understand where things are in the wor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4797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Pr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the reader by signaling, “Look at me! I’m important!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O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Ital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l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Fo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the reader understand by representing information in different fo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 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Bo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the reader by provid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s the major chapters and parts of a book along with their page numb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urpose of a table of contents is to help you find specific parts of the book quickly and eas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of Content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695520" y="1279800"/>
            <a:ext cx="745164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ble of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ography of the United States……………………………………p.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tive Americans and Their Land………………………………….p.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tive American Cultural Regions………………………………….p.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y Europeans left for the New World……………………..p.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MPj04394700000[1]" descr=""/>
          <p:cNvPicPr/>
          <p:nvPr/>
        </p:nvPicPr>
        <p:blipFill>
          <a:blip r:embed="rId1"/>
          <a:stretch/>
        </p:blipFill>
        <p:spPr>
          <a:xfrm>
            <a:off x="3429000" y="4495680"/>
            <a:ext cx="19782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ndex at the very back of the textbook gives the location of every important idea, term, definition, person, and pl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index is a search t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-------------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ckson, Andrew, 1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mes I (Britain), 61, 62, 6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mestown, 59, 61, 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pan, 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efferson, Thomas, 94, 100, 123, 12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lossary is an alphabetized list of key people, places, events, and terms.  It is a tool to help you understand the language of the su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urpose of the glossary is to give you the specialized language of the subject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boli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(AB uh LIHSH uhn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n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the movement to end slavery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ff"/>
                </a:solidFill>
                <a:latin typeface="Comic Sans MS"/>
              </a:rPr>
              <a:t>(p.44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y term in bo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ronunc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Part of spe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Defini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Comic Sans MS"/>
              </a:rPr>
              <a:t>Page where term is u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 the reader with an image in order to understand exactly what something/someone looks lik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tograp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lust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in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s in and around a photograph or illust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give a better understanding of what is depicted in the pic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9:09:59Z</dcterms:created>
  <dc:creator>ccps</dc:creator>
  <dc:description/>
  <dc:language>en-US</dc:language>
  <cp:lastModifiedBy>CCPS</cp:lastModifiedBy>
  <dcterms:modified xsi:type="dcterms:W3CDTF">2008-12-02T15:17:54Z</dcterms:modified>
  <cp:revision>7</cp:revision>
  <dc:subject/>
  <dc:title>Text Features</dc:title>
</cp:coreProperties>
</file>